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B270-8B36-4DEF-A410-9C31FB9F8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5AAB-0C1A-49F9-BB78-0D9020D32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F44D-DBE0-425F-B1F0-CC707808B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8A86-6C6E-4B60-B21D-B8036A5AD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7C813-942C-472B-A474-0FCB70A27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183FA-040B-4AD2-BFFF-4F984BB74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0B2C2-B518-425F-93A2-E81B5A3C5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6697F-BBEA-4B1B-BB40-7FBE3867E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3C92A-D139-49B9-8F54-61F5F8C08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D81FC-530D-4594-96E4-DF47461BC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B90D6-A5A2-4BE4-81D2-C6FFEFC23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9108-508A-45FD-B0BF-939C3A346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347C6-CE8E-44C6-A68A-32DDED955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9C662-FB35-41AE-9558-4D5307834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1FA50-04DF-44EA-B7CA-BC8B1D820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8AA8C-40BD-4E98-B5FB-A63A83029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6C594-038F-4D53-9838-122B873A0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B4A6-116B-4A4D-9AD6-8F7FECFE7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C54F-56B9-4C03-A62A-F6875FA78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1085-17FD-46B9-B351-C0BCFF33D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1D1D-E47B-4B0C-A918-6B4AA72E7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42FD-CDDD-4E05-88B9-E842681A8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3D75-E4E8-48C2-B8F4-317A68ECC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A605-FA71-4136-8521-06914482C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63587-A314-4854-AB53-2747D15EA6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8BEA2-3F5D-48CB-87BE-CB0AE424A4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3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원의 권리•의무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치 활동의 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집단 행위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영리업무 및 겸직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받을 권리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익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헌법의 교육의 기회를 균등하게 받을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친권적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모의 자녀에 대한 교육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탁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가 교육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사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고등전문직으로서의 자유재량권 행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윌슨의 저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행정 당국으로부터 교육당국의 독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유로운 교육의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의 제정 및 운영에의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당한 지배로부터의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학의 학문적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주적인 단체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부여 받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지키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언행일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위로서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통제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급별에 따라서 교원의 권위는 달라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권위의 구성 요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권위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신수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통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합리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1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 자신의 내재적 권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덕적 사회적 성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2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외재적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적 이론적 측면에서의 수월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3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권위에 대한 학생의 태도와 심리적 경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크라테스는 왜 죽었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너 자신을 알라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악법도 법이다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우리의 권리와 의무는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신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정 직업인으로서 교사자격증을 가지고 정규 학교에서 학생들을 대상으로 교육활동을 하는 전문적인 직업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공민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기술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&amp;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송통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등의 공•사립의 모든 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설강습소와 직업훈련원은 아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종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와 특수학교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와 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원과 배치는 대통령령으로 정한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총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임강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예교수 추대는 대통령령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.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정직원과 조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정 교모 이하인 경우는 원감을 두지 않을 수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초등학교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&amp;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학교의 교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종류의 교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1, 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급 정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준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상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서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기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는 직위가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직교사는 업무 분장상의 보직 명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그러나 직위 또는 자격이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적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교육활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신분보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침해 사항 방지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성의 신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능력의 자율성 보장과 함께 사회적 책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치적 중립성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생활보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보수 수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p. 10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조건 개선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당 인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업 부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잡무 과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•후생제도의 확충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연금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녀학비 및 장학금 지급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주택 교원 지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분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쟁송제기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징계의 사유와 종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. 118 &amp;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-11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재심 위원회에 재심 요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연장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행정 소송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체포특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행범이 아닐 경우에는 학교장의 동의 요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직단체 활동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 및 연구활동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품위 유지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밀엄수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9T02:25:13Z</dcterms:created>
  <dc:creator>XPuser</dc:creator>
  <dc:description/>
  <dc:language>en-US</dc:language>
  <cp:lastModifiedBy>staff</cp:lastModifiedBy>
  <dcterms:modified xsi:type="dcterms:W3CDTF">2008-10-10T05:14:04Z</dcterms:modified>
  <cp:revision>8</cp:revision>
  <dc:subject/>
  <dc:title>제 3장 교원의 권리•의무</dc:title>
</cp:coreProperties>
</file>